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3520F-8613-463B-B551-F98F8E42FCC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49E4C-9137-4535-9E1B-76F21DE70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70BE3-AF58-40AB-8CCC-2B593FDF9A5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345E4-328E-4A72-824E-FFCB8C6D0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A5F3E-F4EF-4F3C-A232-5B0025EAD81D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09C57-8895-4034-93B8-470057AA0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09773-E223-4A5B-B2B0-4F529FF7193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12E14-5F01-437B-8864-14A164573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E3C08-7610-4FEA-BA68-75F29C604D4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3D885-64AC-4A74-B8C3-7681AADB4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9534E-F970-4F90-A741-BB424ACEF6B4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EE743-B39D-4CD7-9912-555BC9B93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0CEA5-7626-4F0C-8FAC-BA1712B71370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1F188-AF8F-495A-82B3-F5FBFF8C2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824F-2920-408E-AB35-32A53FDEA7C0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CF7BC-5B75-44C8-B377-C64228EAD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13447-0B5B-462F-963E-9A40585A4356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666D2-A4BA-4EB7-90D1-68BFDEBF5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E0B97-07FD-4FF0-8216-C5D55890E876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BBADD-1196-497F-A1C5-C23A76C21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4324B-A3F9-439E-BFE3-3A2E9AE79BAA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A1CF-0DD7-45AE-9400-638C42207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35BFE-6174-4010-9285-1ED1C4DBF24D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27229-E224-4C38-946F-4681B9150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D933F-5978-44FD-880B-C4CCFD7C869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150DC-8107-4574-B7B4-61B64C484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01146-6D7C-4AD4-BA04-28E3B18E8052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B6DE-95AA-4E4C-AAC2-624188103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FA94C-48D8-4CC8-87FF-B5F71098746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B50E-1E9E-47F7-82AD-2B8124101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A3836-B590-430B-A7E5-079C1C03A94F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D2580-427E-456F-9A66-ADA5BC235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EBED0-B9B5-4A07-A0FD-06483D0F935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8EAF8-64A7-4012-9185-DC0D93457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F6BE1-B9A3-4BB8-A4F0-7E1A3BB45EB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F2B56-43BD-4881-A779-E34B080FB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14D9-EC23-47BC-9BDA-1F02BAEFB4FC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A007D-B163-4939-984D-DE9D04629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CF696-ABE2-467F-BFF1-A5D7D2755375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3F73D-1D29-467D-8A44-7B4F0AB72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ate Placeholder 4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AFBF6-1321-4E4B-8B44-676989B1BA4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D3B0-C9C8-4477-8B61-A1EE53197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F2A-AF1E-4A77-9FCF-D3453CB4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9D6-4D62-4EE2-AE2B-8673E494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3EB-CCFC-4963-BFCF-9637CBAD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57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011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57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011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6F7-35FE-4A31-836F-5325CF0B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080-D8DE-4F6A-80F7-FE168020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8CB7-0C59-4851-AD9D-9ABCCE94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3DF5-78CB-4873-9A3B-FA63854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8C2-4ECE-44B6-89BD-569092AF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7035-EE1B-4849-9E05-8E68449B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85400" y="457200"/>
            <a:ext cx="7905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A4F1-9718-4E89-8398-C0941B7C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853-866D-46F1-8158-DFFF1D9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7DA-8652-4398-8DB8-0953839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F3A4-D39D-4A7C-ABDC-DC0B5EE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26B-7274-4C27-A08E-50E187D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F032-35B7-46A6-8F66-593F5E07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58D2-EB09-49F7-8BA3-0DC6F4B6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957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01160" y="12189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903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957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01160" y="3884760"/>
            <a:ext cx="257616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4DB4-B595-493F-A794-3B34D60E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158-9839-4517-9269-5F26477B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18E-396A-4791-BB7D-3C04CB9A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56A-1D3D-4311-9FFF-8E5FAA53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85400" y="457200"/>
            <a:ext cx="79059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BF7-A2CD-4D95-AB29-B78514D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FE0-A469-4E25-B871-AA58925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90040" y="38847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834-FDD1-4513-A777-184F848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5400" y="348120"/>
            <a:ext cx="790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0040" y="1218960"/>
            <a:ext cx="39042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3884760"/>
            <a:ext cx="8001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EAF-98CF-43BF-8D7B-41418F3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440"/>
              <a:ext cx="10778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Picture 7" descr="0538699663_ppt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77840" cy="13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Text Box 8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9CEA0A1F-BDD1-423E-8FCE-E341A200C88D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4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5"/>
            <p:cNvSpPr/>
            <p:nvPr/>
          </p:nvSpPr>
          <p:spPr>
            <a:xfrm>
              <a:off x="0" y="1440"/>
              <a:ext cx="1965240" cy="685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6" descr="0538699663_ppt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9652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8"/>
          <p:cNvSpPr/>
          <p:nvPr/>
        </p:nvSpPr>
        <p:spPr>
          <a:xfrm>
            <a:off x="3308400" y="6532560"/>
            <a:ext cx="2539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© 2003 SOUTH-WESTERN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886040" y="6532200"/>
            <a:ext cx="12189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731520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077320" y="6532200"/>
            <a:ext cx="9144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7CDB5B22-15C4-4FE1-A6D7-6D3D342E35B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m:/ancillaries/Chapter%20PowerPoints/CH02_a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C4302E06-82CD-493A-96E7-E10E1C31BB4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CHAPTER 1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LEARNING ABOUT WORK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69800" y="3200400"/>
            <a:ext cx="7468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Peop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1520" y="2741760"/>
            <a:ext cx="173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D33F88A0-5DA4-46AF-877A-BF4FD2C30188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, Occupation, Job (continue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o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aid position at a specific place or se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at a doctor’s office, in a mine, at a store, in a school, at home, in a nursing home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Occupation &amp; J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 is required first. (learned through education/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jobs require no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se are obtained, occupational training may follow. (being trained on the j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change jobs a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 job at State Insurance to work at Merchants Bank and maybe later work at Mercy Hospital – Still having the same Occupation! (ie: Aud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hange occupations and never leave their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as Salesman at Condo Resort, then later work as General Manager at Condo Res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4603E10E-84D1-498A-AA1F-79A00DE1EBC2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90596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Britannic Bold"/>
              </a:rPr>
              <a:t>RELATIONSHIPS AMONG </a:t>
            </a:r>
            <a:br>
              <a:rPr sz="3200"/>
            </a:br>
            <a:r>
              <a:rPr b="0" lang="en-US" sz="3200" spc="-1" strike="noStrike">
                <a:solidFill>
                  <a:srgbClr val="404176"/>
                </a:solidFill>
                <a:latin typeface="Britannic Bold"/>
              </a:rPr>
              <a:t>WORK, OCCUPATION, AND JOB</a:t>
            </a:r>
            <a:endParaRPr b="0" lang="en-US" sz="32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5"/>
          <p:cNvGrpSpPr/>
          <p:nvPr/>
        </p:nvGrpSpPr>
        <p:grpSpPr>
          <a:xfrm>
            <a:off x="1373040" y="1886040"/>
            <a:ext cx="7496280" cy="4514760"/>
            <a:chOff x="1373040" y="1886040"/>
            <a:chExt cx="7496280" cy="4514760"/>
          </a:xfrm>
        </p:grpSpPr>
        <p:sp>
          <p:nvSpPr>
            <p:cNvPr id="148" name="Text Box 9"/>
            <p:cNvSpPr/>
            <p:nvPr/>
          </p:nvSpPr>
          <p:spPr>
            <a:xfrm>
              <a:off x="1373040" y="3260880"/>
              <a:ext cx="1997280" cy="731520"/>
            </a:xfrm>
            <a:prstGeom prst="rect">
              <a:avLst/>
            </a:prstGeom>
            <a:gradFill rotWithShape="0">
              <a:gsLst>
                <a:gs pos="0">
                  <a:srgbClr val="babe90"/>
                </a:gs>
                <a:gs pos="100000">
                  <a:srgbClr val="fefe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Unpaid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6872400" y="3260880"/>
              <a:ext cx="1996920" cy="731520"/>
            </a:xfrm>
            <a:prstGeom prst="rect">
              <a:avLst/>
            </a:prstGeom>
            <a:gradFill rotWithShape="0">
              <a:gsLst>
                <a:gs pos="0">
                  <a:srgbClr val="babe90"/>
                </a:gs>
                <a:gs pos="100000">
                  <a:srgbClr val="fefe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aid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1"/>
            <p:cNvGrpSpPr/>
            <p:nvPr/>
          </p:nvGrpSpPr>
          <p:grpSpPr>
            <a:xfrm>
              <a:off x="1373040" y="5499000"/>
              <a:ext cx="7496280" cy="901800"/>
              <a:chOff x="1373040" y="5499000"/>
              <a:chExt cx="7496280" cy="901800"/>
            </a:xfrm>
          </p:grpSpPr>
          <p:sp>
            <p:nvSpPr>
              <p:cNvPr id="151" name="Text Box 12"/>
              <p:cNvSpPr/>
              <p:nvPr/>
            </p:nvSpPr>
            <p:spPr>
              <a:xfrm>
                <a:off x="1373040" y="566892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 group of similar tasks that a person performs for pay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7"/>
              <p:cNvSpPr/>
              <p:nvPr/>
            </p:nvSpPr>
            <p:spPr>
              <a:xfrm>
                <a:off x="1516320" y="5499000"/>
                <a:ext cx="182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Occup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22"/>
            <p:cNvGrpSpPr/>
            <p:nvPr/>
          </p:nvGrpSpPr>
          <p:grpSpPr>
            <a:xfrm>
              <a:off x="1373040" y="4292640"/>
              <a:ext cx="7496280" cy="903240"/>
              <a:chOff x="1373040" y="4292640"/>
              <a:chExt cx="7496280" cy="903240"/>
            </a:xfrm>
          </p:grpSpPr>
          <p:sp>
            <p:nvSpPr>
              <p:cNvPr id="154" name="Text Box 11"/>
              <p:cNvSpPr/>
              <p:nvPr/>
            </p:nvSpPr>
            <p:spPr>
              <a:xfrm>
                <a:off x="1373040" y="446400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 paid position for work done at a specific place or settin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"/>
              <p:cNvSpPr/>
              <p:nvPr/>
            </p:nvSpPr>
            <p:spPr>
              <a:xfrm>
                <a:off x="1456560" y="4292640"/>
                <a:ext cx="63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23"/>
            <p:cNvGrpSpPr/>
            <p:nvPr/>
          </p:nvGrpSpPr>
          <p:grpSpPr>
            <a:xfrm>
              <a:off x="1373040" y="1886040"/>
              <a:ext cx="7496280" cy="903240"/>
              <a:chOff x="1373040" y="1886040"/>
              <a:chExt cx="7496280" cy="903240"/>
            </a:xfrm>
          </p:grpSpPr>
          <p:sp>
            <p:nvSpPr>
              <p:cNvPr id="157" name="Text Box 8"/>
              <p:cNvSpPr/>
              <p:nvPr/>
            </p:nvSpPr>
            <p:spPr>
              <a:xfrm>
                <a:off x="1373040" y="2057400"/>
                <a:ext cx="7496280" cy="731880"/>
              </a:xfrm>
              <a:prstGeom prst="rect">
                <a:avLst/>
              </a:prstGeom>
              <a:gradFill rotWithShape="0">
                <a:gsLst>
                  <a:gs pos="0">
                    <a:srgbClr val="babe90"/>
                  </a:gs>
                  <a:gs pos="100000">
                    <a:srgbClr val="fefe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ctivity directed towards a goal that produces something of valu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5"/>
              <p:cNvSpPr/>
              <p:nvPr/>
            </p:nvSpPr>
            <p:spPr>
              <a:xfrm>
                <a:off x="1424160" y="1886040"/>
                <a:ext cx="93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Group 24"/>
          <p:cNvGrpSpPr/>
          <p:nvPr/>
        </p:nvGrpSpPr>
        <p:grpSpPr>
          <a:xfrm>
            <a:off x="2438280" y="2590920"/>
            <a:ext cx="5315040" cy="3276360"/>
            <a:chOff x="2438280" y="2590920"/>
            <a:chExt cx="5315040" cy="3276360"/>
          </a:xfrm>
        </p:grpSpPr>
        <p:sp>
          <p:nvSpPr>
            <p:cNvPr id="160" name="Line 16"/>
            <p:cNvSpPr/>
            <p:nvPr/>
          </p:nvSpPr>
          <p:spPr>
            <a:xfrm flipV="1">
              <a:off x="2438280" y="2590920"/>
              <a:ext cx="137160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 flipV="1">
              <a:off x="6381720" y="2590920"/>
              <a:ext cx="137160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 flipH="1">
              <a:off x="6381720" y="3809880"/>
              <a:ext cx="137160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4419720" y="50292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 flipV="1">
              <a:off x="5638680" y="4952520"/>
              <a:ext cx="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35A18B98-C573-4059-898B-02D2DD7A31EC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ACTIVITY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eet:  Work, Occupation,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D4F2B602-1E3D-487F-8DCB-11740D4A6C8B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LESSON 1.2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EDUCATION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69800" y="3200400"/>
            <a:ext cx="7468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ree types of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enefits of work experienc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NS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ing How to Learn, Self-Management, Responsibility, Self-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3360" y="2741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E85C1554-8C35-454D-AFE8-A785E6DD97F0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rovide opportunities for students to explore or participate in work as an extension of the regular schoo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Cooperative (co-op) Career and Technical Education  (CTE)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ool-to-Work/Inter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learn specific occupational skills for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al Skills:  skills needed to perform tasks or duties of a specific occu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s are found in 16 different career clusters, which are divided into 2 or more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40249F88-1E27-4BB8-AAD7-2C0435DEE13D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 </a:t>
            </a:r>
            <a:r>
              <a:rPr b="0" lang="en-US" sz="28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8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E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Station/Work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tudent’s place of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Agre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utlines the student, supervisor, and coordinating teacher’s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 Pl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cribes the knowledge, attitudes, and skills to be developed by the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ork-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ability Skil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eneral work habits and attitudes required in all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tuality, attendance, dependability,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72722F0A-3FC9-4501-B64B-B15AAA715165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 Experience Programs </a:t>
            </a:r>
            <a:r>
              <a:rPr b="0" lang="en-US" sz="28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8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oratory Work Experience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opportunities to observe work and to try out various work tasks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job-shad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career guidance rather than the development of occupational or employabilit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er Guida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ssisting students in career planning and decision m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39C255BE-195C-4DA9-B88C-7C919FFFDD13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Benefits Of Work Experience (7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earn occupati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skills through on-the-job training in actual work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s you for higher starting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velop employability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ttitudes and habits that employers ex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stablish a work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’t get a job without experience, but you can’t get experience without a job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valuable work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arn while you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ning money gives you a sense of accomp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for future expenses: education, independent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A6A46FE2-4A4A-48DA-8AA6-DF2FC026D603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Benefits Of Work Experience </a:t>
            </a: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(continued)</a:t>
            </a:r>
            <a:endParaRPr b="0" lang="en-US" sz="24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iscover career interests and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the type of career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cognize the relationship between education an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xperience can provide you with something you may be missing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main employed after grad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offered a permane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someone who is already trained is beneficial for both the employer and the employ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A8EA19A1-215D-4E99-9C7F-1D10080E063B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Chapter 1 Assignment: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Terms, pg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Questions 16, 17, 19, 20 (pg.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Split into groups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Come up with a 2-3 minute skit that shows someone doing </a:t>
            </a:r>
            <a:r>
              <a:rPr b="1" lang="en-US" sz="2800" spc="-1" strike="noStrike">
                <a:solidFill>
                  <a:srgbClr val="333399"/>
                </a:solidFill>
                <a:latin typeface="Maiandra GD"/>
              </a:rPr>
              <a:t>work</a:t>
            </a: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 (can be paid or unpaid) but ALSO shows at least 2 </a:t>
            </a:r>
            <a:r>
              <a:rPr b="1" lang="en-US" sz="2800" spc="-1" strike="noStrike">
                <a:solidFill>
                  <a:srgbClr val="333399"/>
                </a:solidFill>
                <a:latin typeface="Maiandra GD"/>
              </a:rPr>
              <a:t>benefits </a:t>
            </a: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of work exper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You have 15 minutes to complete skit. 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Maiandra GD"/>
              </a:rPr>
              <a:t>Present s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447920" y="2514600"/>
            <a:ext cx="7543800" cy="335268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04ED9D4-8964-4772-B090-4EE52371CE96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Preview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461600"/>
            <a:ext cx="80010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(customers) respond to you differently than when you are not at work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2820C89-BD2F-44FF-9D06-4BA06204BA6E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085760" y="6094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ING</a:t>
            </a:r>
            <a:br>
              <a:rPr sz="3600"/>
            </a:b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Career Success for the 21</a:t>
            </a:r>
            <a:r>
              <a:rPr b="0" lang="en-US" sz="2400" spc="-1" strike="noStrike" baseline="30000">
                <a:solidFill>
                  <a:srgbClr val="404176"/>
                </a:solidFill>
                <a:latin typeface="Britannic Bold"/>
              </a:rPr>
              <a:t>st</a:t>
            </a: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 Century</a:t>
            </a:r>
            <a:br>
              <a:rPr sz="2400"/>
            </a:br>
            <a:r>
              <a:rPr b="0" lang="en-US" sz="2400" spc="-1" strike="noStrike">
                <a:solidFill>
                  <a:srgbClr val="404176"/>
                </a:solidFill>
                <a:latin typeface="Britannic Bold"/>
              </a:rPr>
              <a:t>by Larry J. Bai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85760" y="2514600"/>
            <a:ext cx="72406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on the title below to view the presentation for the next chap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itannic Bold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04176"/>
                </a:solidFill>
                <a:uFillTx/>
                <a:latin typeface="Britannic Bold"/>
                <a:hlinkClick r:id="rId1"/>
              </a:rPr>
              <a:t>THE JOB A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7C21B961-ECC2-4529-A10D-8B46D2ECCBAD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176"/>
                </a:solidFill>
                <a:latin typeface="Britannic Bold"/>
              </a:rPr>
              <a:t>Thoughts on Work</a:t>
            </a:r>
            <a:endParaRPr b="0" lang="en-US" sz="32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Work and play are words used to describe the same thing under differing conditions.” ~Mark Tw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leisure activ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or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same activity mean both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enjoyable/satisfying vs. dull/borin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558BE972-8ED5-4F5E-8331-38E68396DEBC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ritannic Bold"/>
              </a:rPr>
              <a:t>LESSON 1.1</a:t>
            </a:r>
            <a:br>
              <a:rPr sz="2400"/>
            </a:b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HY PEOPLE WORK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0160" y="3200400"/>
            <a:ext cx="6859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reasons why peop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Font typeface="Wingdings 2" charset="2"/>
              <a:buChar char="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3360" y="2741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7C69A496-BF40-4713-8BC6-73CDB4333375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ing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’s views about work vary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mericans fe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s part of well-rounde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ike the work they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hare some ideas – brainstorm @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131C437E-E3D3-4F21-868D-F9CFB9E2B02F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(7 reasons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576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n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:  food, shelter,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:  comfort, enjoyment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e differen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social crea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environment allows peo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/Receive understanding and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E9E92B1F-A817-4B1A-B82C-A85292EC5AEC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cont’d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accomp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 of self-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es from knowing that other people pay you for your skil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work tasks have you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B268BBC3-F086-44AF-ADD1-F7597D4493C6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Reasons to Work (continued)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miration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ccupations do you consider to have more prestige/statu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y to learn and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to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/Physic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re active and happy in their work tend to fee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ed to our interests (what we like), and abilities and talents (what we do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731520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077320" y="653256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Slide </a:t>
            </a:r>
            <a:fld id="{1C91241C-9181-4A54-98EF-841F281F6121}" type="slidenum">
              <a:rPr b="1" lang="en-US" sz="1200" spc="-1" strike="noStrike">
                <a:solidFill>
                  <a:srgbClr val="ff33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5400" y="457200"/>
            <a:ext cx="7905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Britannic Bold"/>
              </a:rPr>
              <a:t>Work, Occupation, Job</a:t>
            </a:r>
            <a:endParaRPr b="0" lang="en-US" sz="3600" spc="-1" strike="noStrike">
              <a:solidFill>
                <a:srgbClr val="404176"/>
              </a:solidFill>
              <a:latin typeface="Britann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ork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ity directed toward a purpose or goal that produces something of value to oneself and/or to society.  ** May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pai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schoolwork, homework, household work, volunteer work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papers, creating lesson plans, attending meetings,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ccup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ame given to a group of similar tasks that a person performs for pa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* Not the same as career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s are learned on the job and in educational and training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keyboarding, filing, maintaining records, placing phone calls, scheduling meetings, what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176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, chemical engineer, accountant, photogra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360" y="5734080"/>
            <a:ext cx="1054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Narrow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22:30:44Z</dcterms:created>
  <dc:creator>M. C. McLaughlin</dc:creator>
  <dc:description/>
  <dc:language>en-US</dc:language>
  <cp:lastModifiedBy>Lenessa Keehn</cp:lastModifiedBy>
  <cp:lastPrinted>2002-04-25T17:31:12Z</cp:lastPrinted>
  <dcterms:modified xsi:type="dcterms:W3CDTF">2011-09-12T06:12:57Z</dcterms:modified>
  <cp:revision>46</cp:revision>
  <dc:subject/>
  <dc:title>CHAPTER 1 LEARNING ABOUT WORK</dc:title>
</cp:coreProperties>
</file>